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A49-705C-4737-B5E6-F2D88DCE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C16-5FB3-463E-83F3-7A8FFF47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14B-9CB3-4A0B-8AF0-80AAF249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EA5-EABC-41C4-8C86-4B6AA0F8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D0A1-31AD-4B0C-B13E-D0C64D4C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0094-D366-419C-B712-5D49ED8B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E971-720D-4FCE-8959-0397FFCE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7B13-0B53-47C3-BCD2-E924CEA1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2DFE-2992-4CAE-B0CE-D1BBD7A3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2BBD-C29C-49BB-8E39-FDA351B0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BF56-01FE-44E5-BC55-95B19B91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A2D-3AB9-4C7C-A264-F9C132E0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9218-9709-41CC-9A8F-F11FE768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C771-C565-4934-BA84-C047D88F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DA41-0E5F-41C6-B4F8-E1C3373F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A6D7-CEF0-4C96-923F-EABFDFFF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1A01-E595-418F-BD5A-859CBD9D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E29-45E5-46D5-9A03-9F7FBD4D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D04-769A-4EC0-B197-FED05F36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E3F-8BAE-46B9-8E3C-BA070120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D21-B33F-4D36-B057-68DAD11A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F20-77D1-4AA6-940A-4E0C1CE7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FB5-0BE1-4090-AB49-DA20D70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402-6872-4EBA-9574-78700D14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7304-A2A0-41F6-A8FD-55F6697C41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7EF6-8B4D-4573-A32E-2EA356FA89A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Radius, find the h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H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 = 24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about 14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Total Surface area of the cyl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3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πx 2) + (2.35x2xπx14.2) = 227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7.02 x 14 = Cost of the Metal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sheet cost = $34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Concret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 would have 0.5 meters added to the original container. the concrete’s radius = 2.85 height 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concrete = 2.8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π x 0.2 =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st of concrete = 5.1 x 640 = $3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TOTAL COST = $3421.6+$3264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$668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What we found out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2320" y="6858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17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50 Families would need water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245700 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ilet Flu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0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Clot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Dis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Li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7 L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linder with Radius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35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igh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.2 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cos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685.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943600" y="2819520"/>
          <a:ext cx="31240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19520"/>
                    <a:ext cx="31240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914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families would need 245700 liters for li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iter is converted to 1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5700 Liters = 245.7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earch, found that larger height makes the shape to be che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ase cannot be too small and just tall, because then it will collapse very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ing on which dimension is the best. (Longest h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the building from falling sideways, the diameter of the base has to be 3~4 times smaller than height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cylinder = Radiu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π x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Height = 3 x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2R(Diameter) x 3 x π = 24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6R = 78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R = 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성민 학교프로그램용</cp:lastModifiedBy>
  <dcterms:modified xsi:type="dcterms:W3CDTF">2008-12-01T10:34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